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4.png" ContentType="image/png"/>
  <Override PartName="/ppt/media/image1.gif" ContentType="image/gif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3.png" ContentType="image/png"/>
  <Override PartName="/ppt/media/image10.gif" ContentType="image/gif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7.gif" ContentType="image/gif"/>
  <Override PartName="/ppt/media/image7.png" ContentType="image/png"/>
  <Override PartName="/ppt/media/image27.gif" ContentType="image/gif"/>
  <Override PartName="/ppt/media/image34.png" ContentType="image/png"/>
  <Override PartName="/ppt/media/image4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22.gif" ContentType="image/gif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1FD-49D2-496A-B679-B01F266E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027-18D4-442B-BDDD-65461FF4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99B-E65B-4240-A5AD-1FADCA32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990-D65F-46CE-91EA-55CC5597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FD8-1821-4641-8F28-FC54E505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8BC-AD33-446B-A58D-74C3B55A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5F4-2157-492A-8546-7753177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84B-8645-4DFB-934C-407AD675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180-746A-4AEC-97F8-E2AE8797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3A8-45B1-48E2-8401-EF9A4AA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BEE-9940-4274-90A2-00C177F4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131-BDB7-4986-AF38-7A42C656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C911-0685-415E-80AF-F0FDFA1FFC39}" type="datetime">
              <a:rPr b="0" lang="es-MX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18E3-7207-4BE5-B303-24F7B88B98A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7.gif"/><Relationship Id="rId8" Type="http://schemas.openxmlformats.org/officeDocument/2006/relationships/image" Target="../media/image37.gif"/><Relationship Id="rId9" Type="http://schemas.openxmlformats.org/officeDocument/2006/relationships/image" Target="../media/image37.gif"/><Relationship Id="rId10" Type="http://schemas.openxmlformats.org/officeDocument/2006/relationships/image" Target="../media/image37.gif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40108poissonclown04"/>
          <p:cNvPicPr/>
          <p:nvPr/>
        </p:nvPicPr>
        <p:blipFill>
          <a:blip r:embed="rId1"/>
          <a:stretch/>
        </p:blipFill>
        <p:spPr>
          <a:xfrm flipH="1">
            <a:off x="642600" y="428760"/>
            <a:ext cx="4025880" cy="3151080"/>
          </a:xfrm>
          <a:prstGeom prst="rect">
            <a:avLst/>
          </a:prstGeom>
          <a:ln w="0">
            <a:noFill/>
          </a:ln>
        </p:spPr>
      </p:pic>
      <p:pic>
        <p:nvPicPr>
          <p:cNvPr id="42" name="5 Rectángulo" descr=""/>
          <p:cNvPicPr/>
          <p:nvPr/>
        </p:nvPicPr>
        <p:blipFill>
          <a:blip r:embed="rId2"/>
          <a:stretch/>
        </p:blipFill>
        <p:spPr>
          <a:xfrm>
            <a:off x="3382920" y="-755640"/>
            <a:ext cx="6943680" cy="6145200"/>
          </a:xfrm>
          <a:prstGeom prst="rect">
            <a:avLst/>
          </a:prstGeom>
          <a:ln w="0">
            <a:noFill/>
          </a:ln>
        </p:spPr>
      </p:pic>
      <p:pic>
        <p:nvPicPr>
          <p:cNvPr id="43" name="6 Rectángulo" descr=""/>
          <p:cNvPicPr/>
          <p:nvPr/>
        </p:nvPicPr>
        <p:blipFill>
          <a:blip r:embed="rId3"/>
          <a:stretch/>
        </p:blipFill>
        <p:spPr>
          <a:xfrm>
            <a:off x="-822240" y="2639880"/>
            <a:ext cx="7497720" cy="6345360"/>
          </a:xfrm>
          <a:prstGeom prst="rect">
            <a:avLst/>
          </a:prstGeom>
          <a:ln w="0">
            <a:noFill/>
          </a:ln>
        </p:spPr>
      </p:pic>
      <p:sp>
        <p:nvSpPr>
          <p:cNvPr id="44" name="4 Marcador de pie de página"/>
          <p:cNvSpPr/>
          <p:nvPr/>
        </p:nvSpPr>
        <p:spPr>
          <a:xfrm>
            <a:off x="3124080" y="627840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mariposa"/>
          <p:cNvPicPr/>
          <p:nvPr/>
        </p:nvPicPr>
        <p:blipFill>
          <a:blip r:embed="rId1"/>
          <a:stretch/>
        </p:blipFill>
        <p:spPr>
          <a:xfrm>
            <a:off x="756936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mariposa"/>
          <p:cNvPicPr/>
          <p:nvPr/>
        </p:nvPicPr>
        <p:blipFill>
          <a:blip r:embed="rId2"/>
          <a:stretch/>
        </p:blipFill>
        <p:spPr>
          <a:xfrm>
            <a:off x="628668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mariposa"/>
          <p:cNvPicPr/>
          <p:nvPr/>
        </p:nvPicPr>
        <p:blipFill>
          <a:blip r:embed="rId3"/>
          <a:stretch/>
        </p:blipFill>
        <p:spPr>
          <a:xfrm>
            <a:off x="499752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mariposa"/>
          <p:cNvPicPr/>
          <p:nvPr/>
        </p:nvPicPr>
        <p:blipFill>
          <a:blip r:embed="rId4"/>
          <a:stretch/>
        </p:blipFill>
        <p:spPr>
          <a:xfrm>
            <a:off x="371484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mariposa"/>
          <p:cNvPicPr/>
          <p:nvPr/>
        </p:nvPicPr>
        <p:blipFill>
          <a:blip r:embed="rId5"/>
          <a:stretch/>
        </p:blipFill>
        <p:spPr>
          <a:xfrm>
            <a:off x="242892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mariposa"/>
          <p:cNvPicPr/>
          <p:nvPr/>
        </p:nvPicPr>
        <p:blipFill>
          <a:blip r:embed="rId6"/>
          <a:stretch/>
        </p:blipFill>
        <p:spPr>
          <a:xfrm>
            <a:off x="7569360" y="107172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mariposa"/>
          <p:cNvPicPr/>
          <p:nvPr/>
        </p:nvPicPr>
        <p:blipFill>
          <a:blip r:embed="rId7"/>
          <a:stretch/>
        </p:blipFill>
        <p:spPr>
          <a:xfrm>
            <a:off x="6283440" y="107172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mariposa"/>
          <p:cNvPicPr/>
          <p:nvPr/>
        </p:nvPicPr>
        <p:blipFill>
          <a:blip r:embed="rId8"/>
          <a:stretch/>
        </p:blipFill>
        <p:spPr>
          <a:xfrm>
            <a:off x="5000760" y="107172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mariposa"/>
          <p:cNvPicPr/>
          <p:nvPr/>
        </p:nvPicPr>
        <p:blipFill>
          <a:blip r:embed="rId9"/>
          <a:stretch/>
        </p:blipFill>
        <p:spPr>
          <a:xfrm>
            <a:off x="3711600" y="1000080"/>
            <a:ext cx="143208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mariposa"/>
          <p:cNvPicPr/>
          <p:nvPr/>
        </p:nvPicPr>
        <p:blipFill>
          <a:blip r:embed="rId10"/>
          <a:stretch/>
        </p:blipFill>
        <p:spPr>
          <a:xfrm>
            <a:off x="2425680" y="1071720"/>
            <a:ext cx="1432080" cy="1143000"/>
          </a:xfrm>
          <a:prstGeom prst="rect">
            <a:avLst/>
          </a:prstGeom>
          <a:ln w="0">
            <a:noFill/>
          </a:ln>
        </p:spPr>
      </p:pic>
      <p:pic>
        <p:nvPicPr>
          <p:cNvPr id="431" name="12 Rectángulo" descr=""/>
          <p:cNvPicPr/>
          <p:nvPr/>
        </p:nvPicPr>
        <p:blipFill>
          <a:blip r:embed="rId11"/>
          <a:stretch/>
        </p:blipFill>
        <p:spPr>
          <a:xfrm>
            <a:off x="-1504800" y="1011240"/>
            <a:ext cx="7424640" cy="5140440"/>
          </a:xfrm>
          <a:prstGeom prst="rect">
            <a:avLst/>
          </a:prstGeom>
          <a:ln w="0">
            <a:noFill/>
          </a:ln>
        </p:spPr>
      </p:pic>
      <p:pic>
        <p:nvPicPr>
          <p:cNvPr id="432" name="13 Rectángulo" descr=""/>
          <p:cNvPicPr/>
          <p:nvPr/>
        </p:nvPicPr>
        <p:blipFill>
          <a:blip r:embed="rId12"/>
          <a:stretch/>
        </p:blipFill>
        <p:spPr>
          <a:xfrm>
            <a:off x="2773440" y="1352520"/>
            <a:ext cx="7662960" cy="4146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13"/>
          <a:stretch/>
        </p:blipFill>
        <p:spPr>
          <a:xfrm>
            <a:off x="6572160" y="5072040"/>
            <a:ext cx="1071720" cy="1500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14"/>
          <a:stretch/>
        </p:blipFill>
        <p:spPr>
          <a:xfrm>
            <a:off x="7572240" y="5072040"/>
            <a:ext cx="107172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15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48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9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0"/>
                            </p:stCondLst>
                            <p:childTnLst>
                              <p:par>
                                <p:cTn id="49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071720" y="785880"/>
            <a:ext cx="3252600" cy="2070000"/>
            <a:chOff x="1071720" y="785880"/>
            <a:chExt cx="3252600" cy="2070000"/>
          </a:xfrm>
        </p:grpSpPr>
        <p:sp>
          <p:nvSpPr>
            <p:cNvPr id="46" name="Freeform 3"/>
            <p:cNvSpPr/>
            <p:nvPr/>
          </p:nvSpPr>
          <p:spPr>
            <a:xfrm>
              <a:off x="1071720" y="785880"/>
              <a:ext cx="3252600" cy="207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2488680" y="825840"/>
              <a:ext cx="41760" cy="70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2477880" y="916920"/>
              <a:ext cx="52560" cy="4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2792880" y="919800"/>
              <a:ext cx="39600" cy="86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27160" y="943200"/>
              <a:ext cx="254880" cy="63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379240" y="983880"/>
              <a:ext cx="176760" cy="1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2705040" y="986760"/>
              <a:ext cx="40680" cy="784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2640240" y="998280"/>
              <a:ext cx="39600" cy="16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882880" y="1002960"/>
              <a:ext cx="216360" cy="115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2207520" y="1018440"/>
              <a:ext cx="88560" cy="64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1360080" y="1042200"/>
              <a:ext cx="221040" cy="102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2967120" y="1109520"/>
              <a:ext cx="176400" cy="66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2712240" y="1118160"/>
              <a:ext cx="77760" cy="478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2766240" y="1121760"/>
              <a:ext cx="97200" cy="34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1416240" y="1145160"/>
              <a:ext cx="598320" cy="313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2771280" y="1173600"/>
              <a:ext cx="8532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2900880" y="1188720"/>
              <a:ext cx="22680" cy="66960"/>
            </a:xfrm>
            <a:prstGeom prst="pie">
              <a:avLst/>
            </a:prstGeom>
            <a:solidFill>
              <a:srgbClr val="ffb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3057120" y="1192320"/>
              <a:ext cx="117720" cy="954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3040560" y="1204200"/>
              <a:ext cx="26280" cy="12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1563120" y="1216440"/>
              <a:ext cx="15732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3066840" y="1218600"/>
              <a:ext cx="135720" cy="19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2808720" y="1218600"/>
              <a:ext cx="122040" cy="237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1952640" y="1226880"/>
              <a:ext cx="833040" cy="2973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2910600" y="1243440"/>
              <a:ext cx="51480" cy="138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3150000" y="1252080"/>
              <a:ext cx="90000" cy="161640"/>
            </a:xfrm>
            <a:prstGeom prst="pie">
              <a:avLst/>
            </a:pr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1096560" y="1284120"/>
              <a:ext cx="126000" cy="86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1647360" y="1290960"/>
              <a:ext cx="25488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2034360" y="1309680"/>
              <a:ext cx="414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1255320" y="1314720"/>
              <a:ext cx="163440" cy="39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2079720" y="1334520"/>
              <a:ext cx="330480" cy="122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1279440" y="1349280"/>
              <a:ext cx="132480" cy="92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230120" y="1354320"/>
              <a:ext cx="36720" cy="32040"/>
            </a:xfrm>
            <a:prstGeom prst="pie">
              <a:avLst/>
            </a:prstGeom>
            <a:solidFill>
              <a:srgbClr val="ffb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3012840" y="1358640"/>
              <a:ext cx="27720" cy="47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1360080" y="1398600"/>
              <a:ext cx="98640" cy="50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1202400" y="1429560"/>
              <a:ext cx="9252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2578680" y="1436760"/>
              <a:ext cx="211320" cy="1368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1208520" y="1465920"/>
              <a:ext cx="210240" cy="43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2887920" y="1465920"/>
              <a:ext cx="87480" cy="47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3005640" y="1470240"/>
              <a:ext cx="34560" cy="46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2466000" y="1484640"/>
              <a:ext cx="101880" cy="59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2079720" y="1522080"/>
              <a:ext cx="254880" cy="167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2926440" y="1519200"/>
              <a:ext cx="154800" cy="299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1501560" y="1525680"/>
              <a:ext cx="66240" cy="36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2229120" y="1530000"/>
              <a:ext cx="217440" cy="242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3028680" y="1537200"/>
              <a:ext cx="5040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1345680" y="1544400"/>
              <a:ext cx="211320" cy="145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1621800" y="1552680"/>
              <a:ext cx="349560" cy="2527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2497320" y="1551600"/>
              <a:ext cx="85320" cy="525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2039040" y="1564200"/>
              <a:ext cx="40680" cy="74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2144880" y="1576440"/>
              <a:ext cx="15624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1621800" y="1586160"/>
              <a:ext cx="17640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2621160" y="1588320"/>
              <a:ext cx="242280" cy="92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041640" y="1594800"/>
              <a:ext cx="113040" cy="203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1532880" y="1631160"/>
              <a:ext cx="74160" cy="102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2900880" y="1648080"/>
              <a:ext cx="37080" cy="97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2039040" y="1667880"/>
              <a:ext cx="162360" cy="1375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1469160" y="1674360"/>
              <a:ext cx="157320" cy="14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1130400" y="1677240"/>
              <a:ext cx="675360" cy="313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1325160" y="1683720"/>
              <a:ext cx="38160" cy="37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2484000" y="1680840"/>
              <a:ext cx="187200" cy="98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2410560" y="1701360"/>
              <a:ext cx="114120" cy="1357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2700360" y="1701360"/>
              <a:ext cx="117720" cy="182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2934720" y="1717200"/>
              <a:ext cx="40680" cy="95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1373040" y="1745640"/>
              <a:ext cx="123840" cy="24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2354040" y="1741320"/>
              <a:ext cx="27360" cy="83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2309760" y="1765440"/>
              <a:ext cx="174960" cy="1346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2216880" y="1788840"/>
              <a:ext cx="129600" cy="161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1876680" y="1790280"/>
              <a:ext cx="352080" cy="227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2551320" y="1793880"/>
              <a:ext cx="116640" cy="43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2783160" y="1808640"/>
              <a:ext cx="93600" cy="1148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1765080" y="1815840"/>
              <a:ext cx="92520" cy="478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1289160" y="1827360"/>
              <a:ext cx="443520" cy="174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1654200" y="1828080"/>
              <a:ext cx="38160" cy="38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045240" y="1832400"/>
              <a:ext cx="85320" cy="230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1955160" y="1835280"/>
              <a:ext cx="71640" cy="39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190680" y="1839600"/>
              <a:ext cx="587520" cy="55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1818000" y="1846440"/>
              <a:ext cx="137880" cy="127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2896200" y="1859400"/>
              <a:ext cx="19080" cy="47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2530800" y="1863720"/>
              <a:ext cx="136800" cy="19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081600" y="1882800"/>
              <a:ext cx="136800" cy="40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2060640" y="1875600"/>
              <a:ext cx="90000" cy="139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1986120" y="1887120"/>
              <a:ext cx="86400" cy="96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2703960" y="1902600"/>
              <a:ext cx="1477440" cy="887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6"/>
            <p:cNvSpPr/>
            <p:nvPr/>
          </p:nvSpPr>
          <p:spPr>
            <a:xfrm>
              <a:off x="2705040" y="1906920"/>
              <a:ext cx="307440" cy="170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7"/>
            <p:cNvSpPr/>
            <p:nvPr/>
          </p:nvSpPr>
          <p:spPr>
            <a:xfrm>
              <a:off x="2490840" y="1909800"/>
              <a:ext cx="123840" cy="32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8"/>
            <p:cNvSpPr/>
            <p:nvPr/>
          </p:nvSpPr>
          <p:spPr>
            <a:xfrm>
              <a:off x="2594520" y="1914840"/>
              <a:ext cx="120960" cy="176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9"/>
            <p:cNvSpPr/>
            <p:nvPr/>
          </p:nvSpPr>
          <p:spPr>
            <a:xfrm>
              <a:off x="3072960" y="1914120"/>
              <a:ext cx="266760" cy="467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0"/>
            <p:cNvSpPr/>
            <p:nvPr/>
          </p:nvSpPr>
          <p:spPr>
            <a:xfrm>
              <a:off x="2315520" y="1923480"/>
              <a:ext cx="77760" cy="50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1"/>
            <p:cNvSpPr/>
            <p:nvPr/>
          </p:nvSpPr>
          <p:spPr>
            <a:xfrm>
              <a:off x="2750760" y="1926360"/>
              <a:ext cx="46800" cy="51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2"/>
            <p:cNvSpPr/>
            <p:nvPr/>
          </p:nvSpPr>
          <p:spPr>
            <a:xfrm>
              <a:off x="3000600" y="1954440"/>
              <a:ext cx="96120" cy="88920"/>
            </a:xfrm>
            <a:prstGeom prst="pie">
              <a:avLst/>
            </a:pr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3"/>
            <p:cNvSpPr/>
            <p:nvPr/>
          </p:nvSpPr>
          <p:spPr>
            <a:xfrm>
              <a:off x="2774880" y="1956600"/>
              <a:ext cx="1284840" cy="75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4"/>
            <p:cNvSpPr/>
            <p:nvPr/>
          </p:nvSpPr>
          <p:spPr>
            <a:xfrm>
              <a:off x="1935720" y="1978200"/>
              <a:ext cx="31320" cy="16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5"/>
            <p:cNvSpPr/>
            <p:nvPr/>
          </p:nvSpPr>
          <p:spPr>
            <a:xfrm>
              <a:off x="2399760" y="1993680"/>
              <a:ext cx="1198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6"/>
            <p:cNvSpPr/>
            <p:nvPr/>
          </p:nvSpPr>
          <p:spPr>
            <a:xfrm>
              <a:off x="2229120" y="2002320"/>
              <a:ext cx="93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7"/>
            <p:cNvSpPr/>
            <p:nvPr/>
          </p:nvSpPr>
          <p:spPr>
            <a:xfrm>
              <a:off x="2340720" y="2002320"/>
              <a:ext cx="40680" cy="59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8"/>
            <p:cNvSpPr/>
            <p:nvPr/>
          </p:nvSpPr>
          <p:spPr>
            <a:xfrm>
              <a:off x="1753200" y="2006640"/>
              <a:ext cx="16344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9"/>
            <p:cNvSpPr/>
            <p:nvPr/>
          </p:nvSpPr>
          <p:spPr>
            <a:xfrm>
              <a:off x="3322800" y="2007360"/>
              <a:ext cx="85320" cy="109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0"/>
            <p:cNvSpPr/>
            <p:nvPr/>
          </p:nvSpPr>
          <p:spPr>
            <a:xfrm>
              <a:off x="3413160" y="2005200"/>
              <a:ext cx="85320" cy="64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1"/>
            <p:cNvSpPr/>
            <p:nvPr/>
          </p:nvSpPr>
          <p:spPr>
            <a:xfrm>
              <a:off x="1947600" y="2013840"/>
              <a:ext cx="242640" cy="633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2"/>
            <p:cNvSpPr/>
            <p:nvPr/>
          </p:nvSpPr>
          <p:spPr>
            <a:xfrm>
              <a:off x="3229200" y="2017440"/>
              <a:ext cx="126000" cy="123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3"/>
            <p:cNvSpPr/>
            <p:nvPr/>
          </p:nvSpPr>
          <p:spPr>
            <a:xfrm>
              <a:off x="3449160" y="2015280"/>
              <a:ext cx="159840" cy="116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4"/>
            <p:cNvSpPr/>
            <p:nvPr/>
          </p:nvSpPr>
          <p:spPr>
            <a:xfrm>
              <a:off x="3503160" y="2037960"/>
              <a:ext cx="171720" cy="141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5"/>
            <p:cNvSpPr/>
            <p:nvPr/>
          </p:nvSpPr>
          <p:spPr>
            <a:xfrm>
              <a:off x="1831320" y="2048040"/>
              <a:ext cx="601920" cy="103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6"/>
            <p:cNvSpPr/>
            <p:nvPr/>
          </p:nvSpPr>
          <p:spPr>
            <a:xfrm>
              <a:off x="2171160" y="2069280"/>
              <a:ext cx="462600" cy="130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7"/>
            <p:cNvSpPr/>
            <p:nvPr/>
          </p:nvSpPr>
          <p:spPr>
            <a:xfrm>
              <a:off x="3648600" y="2069280"/>
              <a:ext cx="116640" cy="102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8"/>
            <p:cNvSpPr/>
            <p:nvPr/>
          </p:nvSpPr>
          <p:spPr>
            <a:xfrm>
              <a:off x="3000600" y="2084760"/>
              <a:ext cx="27720" cy="27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9"/>
            <p:cNvSpPr/>
            <p:nvPr/>
          </p:nvSpPr>
          <p:spPr>
            <a:xfrm>
              <a:off x="3748320" y="2108520"/>
              <a:ext cx="101880" cy="47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0"/>
            <p:cNvSpPr/>
            <p:nvPr/>
          </p:nvSpPr>
          <p:spPr>
            <a:xfrm>
              <a:off x="3066840" y="2112480"/>
              <a:ext cx="76680" cy="87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1"/>
            <p:cNvSpPr/>
            <p:nvPr/>
          </p:nvSpPr>
          <p:spPr>
            <a:xfrm>
              <a:off x="2943360" y="2117520"/>
              <a:ext cx="63360" cy="64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2"/>
            <p:cNvSpPr/>
            <p:nvPr/>
          </p:nvSpPr>
          <p:spPr>
            <a:xfrm>
              <a:off x="3401280" y="2121840"/>
              <a:ext cx="38160" cy="223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3"/>
            <p:cNvSpPr/>
            <p:nvPr/>
          </p:nvSpPr>
          <p:spPr>
            <a:xfrm>
              <a:off x="3059640" y="2160720"/>
              <a:ext cx="635760" cy="348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4"/>
            <p:cNvSpPr/>
            <p:nvPr/>
          </p:nvSpPr>
          <p:spPr>
            <a:xfrm>
              <a:off x="3682080" y="2168640"/>
              <a:ext cx="221040" cy="51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5"/>
            <p:cNvSpPr/>
            <p:nvPr/>
          </p:nvSpPr>
          <p:spPr>
            <a:xfrm>
              <a:off x="2877120" y="2172240"/>
              <a:ext cx="78120" cy="87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6"/>
            <p:cNvSpPr/>
            <p:nvPr/>
          </p:nvSpPr>
          <p:spPr>
            <a:xfrm>
              <a:off x="3628440" y="2191680"/>
              <a:ext cx="38160" cy="16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7"/>
            <p:cNvSpPr/>
            <p:nvPr/>
          </p:nvSpPr>
          <p:spPr>
            <a:xfrm>
              <a:off x="3158280" y="2196360"/>
              <a:ext cx="43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8"/>
            <p:cNvSpPr/>
            <p:nvPr/>
          </p:nvSpPr>
          <p:spPr>
            <a:xfrm>
              <a:off x="3170160" y="2194920"/>
              <a:ext cx="423000" cy="26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9"/>
            <p:cNvSpPr/>
            <p:nvPr/>
          </p:nvSpPr>
          <p:spPr>
            <a:xfrm>
              <a:off x="3682080" y="2210760"/>
              <a:ext cx="266760" cy="91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0"/>
            <p:cNvSpPr/>
            <p:nvPr/>
          </p:nvSpPr>
          <p:spPr>
            <a:xfrm>
              <a:off x="2994840" y="2215800"/>
              <a:ext cx="25200" cy="23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1"/>
            <p:cNvSpPr/>
            <p:nvPr/>
          </p:nvSpPr>
          <p:spPr>
            <a:xfrm>
              <a:off x="2849400" y="2242800"/>
              <a:ext cx="80280" cy="48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2"/>
            <p:cNvSpPr/>
            <p:nvPr/>
          </p:nvSpPr>
          <p:spPr>
            <a:xfrm>
              <a:off x="3321720" y="2256120"/>
              <a:ext cx="189720" cy="15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3"/>
            <p:cNvSpPr/>
            <p:nvPr/>
          </p:nvSpPr>
          <p:spPr>
            <a:xfrm>
              <a:off x="2974320" y="2261880"/>
              <a:ext cx="163440" cy="720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4"/>
            <p:cNvSpPr/>
            <p:nvPr/>
          </p:nvSpPr>
          <p:spPr>
            <a:xfrm>
              <a:off x="3738960" y="2270520"/>
              <a:ext cx="237960" cy="69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5"/>
            <p:cNvSpPr/>
            <p:nvPr/>
          </p:nvSpPr>
          <p:spPr>
            <a:xfrm>
              <a:off x="3339720" y="2298960"/>
              <a:ext cx="8856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6"/>
            <p:cNvSpPr/>
            <p:nvPr/>
          </p:nvSpPr>
          <p:spPr>
            <a:xfrm>
              <a:off x="2844720" y="2313720"/>
              <a:ext cx="176400" cy="48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7"/>
            <p:cNvSpPr/>
            <p:nvPr/>
          </p:nvSpPr>
          <p:spPr>
            <a:xfrm>
              <a:off x="3878280" y="2321640"/>
              <a:ext cx="98640" cy="493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8"/>
            <p:cNvSpPr/>
            <p:nvPr/>
          </p:nvSpPr>
          <p:spPr>
            <a:xfrm>
              <a:off x="3727080" y="2345760"/>
              <a:ext cx="58680" cy="20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9"/>
            <p:cNvSpPr/>
            <p:nvPr/>
          </p:nvSpPr>
          <p:spPr>
            <a:xfrm>
              <a:off x="3772440" y="2369160"/>
              <a:ext cx="183960" cy="59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0"/>
            <p:cNvSpPr/>
            <p:nvPr/>
          </p:nvSpPr>
          <p:spPr>
            <a:xfrm>
              <a:off x="2849400" y="2378520"/>
              <a:ext cx="178920" cy="32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1"/>
            <p:cNvSpPr/>
            <p:nvPr/>
          </p:nvSpPr>
          <p:spPr>
            <a:xfrm>
              <a:off x="3302640" y="2398320"/>
              <a:ext cx="56160" cy="100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2"/>
            <p:cNvSpPr/>
            <p:nvPr/>
          </p:nvSpPr>
          <p:spPr>
            <a:xfrm>
              <a:off x="3714840" y="2398320"/>
              <a:ext cx="214920" cy="74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3"/>
            <p:cNvSpPr/>
            <p:nvPr/>
          </p:nvSpPr>
          <p:spPr>
            <a:xfrm>
              <a:off x="3028680" y="2401200"/>
              <a:ext cx="30960" cy="11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4"/>
            <p:cNvSpPr/>
            <p:nvPr/>
          </p:nvSpPr>
          <p:spPr>
            <a:xfrm>
              <a:off x="2882880" y="2428560"/>
              <a:ext cx="83880" cy="50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5"/>
            <p:cNvSpPr/>
            <p:nvPr/>
          </p:nvSpPr>
          <p:spPr>
            <a:xfrm>
              <a:off x="2934720" y="2433240"/>
              <a:ext cx="117720" cy="8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6"/>
            <p:cNvSpPr/>
            <p:nvPr/>
          </p:nvSpPr>
          <p:spPr>
            <a:xfrm>
              <a:off x="2974320" y="2445480"/>
              <a:ext cx="188640" cy="86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7"/>
            <p:cNvSpPr/>
            <p:nvPr/>
          </p:nvSpPr>
          <p:spPr>
            <a:xfrm>
              <a:off x="3687120" y="2448360"/>
              <a:ext cx="211320" cy="68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8"/>
            <p:cNvSpPr/>
            <p:nvPr/>
          </p:nvSpPr>
          <p:spPr>
            <a:xfrm>
              <a:off x="3654720" y="2472480"/>
              <a:ext cx="20160" cy="7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2994840" y="2496600"/>
              <a:ext cx="205200" cy="87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0"/>
            <p:cNvSpPr/>
            <p:nvPr/>
          </p:nvSpPr>
          <p:spPr>
            <a:xfrm>
              <a:off x="3666600" y="2500200"/>
              <a:ext cx="9360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1"/>
            <p:cNvSpPr/>
            <p:nvPr/>
          </p:nvSpPr>
          <p:spPr>
            <a:xfrm>
              <a:off x="3224160" y="2503800"/>
              <a:ext cx="32400" cy="20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2"/>
            <p:cNvSpPr/>
            <p:nvPr/>
          </p:nvSpPr>
          <p:spPr>
            <a:xfrm>
              <a:off x="3535920" y="2503800"/>
              <a:ext cx="170640" cy="146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3"/>
            <p:cNvSpPr/>
            <p:nvPr/>
          </p:nvSpPr>
          <p:spPr>
            <a:xfrm>
              <a:off x="3727080" y="2512440"/>
              <a:ext cx="129600" cy="78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4"/>
            <p:cNvSpPr/>
            <p:nvPr/>
          </p:nvSpPr>
          <p:spPr>
            <a:xfrm>
              <a:off x="3307320" y="2524320"/>
              <a:ext cx="85320" cy="122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5"/>
            <p:cNvSpPr/>
            <p:nvPr/>
          </p:nvSpPr>
          <p:spPr>
            <a:xfrm>
              <a:off x="3484080" y="2532240"/>
              <a:ext cx="144000" cy="133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6"/>
            <p:cNvSpPr/>
            <p:nvPr/>
          </p:nvSpPr>
          <p:spPr>
            <a:xfrm>
              <a:off x="3432240" y="2536560"/>
              <a:ext cx="20160" cy="10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7"/>
            <p:cNvSpPr/>
            <p:nvPr/>
          </p:nvSpPr>
          <p:spPr>
            <a:xfrm>
              <a:off x="3229200" y="2539800"/>
              <a:ext cx="5364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8"/>
            <p:cNvSpPr/>
            <p:nvPr/>
          </p:nvSpPr>
          <p:spPr>
            <a:xfrm>
              <a:off x="3092040" y="2559240"/>
              <a:ext cx="124920" cy="78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9"/>
            <p:cNvSpPr/>
            <p:nvPr/>
          </p:nvSpPr>
          <p:spPr>
            <a:xfrm>
              <a:off x="3354480" y="2557800"/>
              <a:ext cx="98280" cy="1126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0"/>
            <p:cNvSpPr/>
            <p:nvPr/>
          </p:nvSpPr>
          <p:spPr>
            <a:xfrm>
              <a:off x="3476880" y="2606760"/>
              <a:ext cx="66240" cy="62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"/>
          <p:cNvGrpSpPr/>
          <p:nvPr/>
        </p:nvGrpSpPr>
        <p:grpSpPr>
          <a:xfrm>
            <a:off x="4929120" y="714240"/>
            <a:ext cx="3252960" cy="2070360"/>
            <a:chOff x="4929120" y="714240"/>
            <a:chExt cx="3252960" cy="2070360"/>
          </a:xfrm>
        </p:grpSpPr>
        <p:sp>
          <p:nvSpPr>
            <p:cNvPr id="195" name="Freeform 3"/>
            <p:cNvSpPr/>
            <p:nvPr/>
          </p:nvSpPr>
          <p:spPr>
            <a:xfrm>
              <a:off x="4929120" y="714240"/>
              <a:ext cx="3252960" cy="207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6346440" y="754200"/>
              <a:ext cx="41760" cy="70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6335280" y="845280"/>
              <a:ext cx="52560" cy="4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6650280" y="848160"/>
              <a:ext cx="39600" cy="86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5884560" y="871560"/>
              <a:ext cx="254880" cy="63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6236640" y="912240"/>
              <a:ext cx="176760" cy="1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6562440" y="915120"/>
              <a:ext cx="40680" cy="784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6497640" y="927000"/>
              <a:ext cx="39600" cy="16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6740640" y="931320"/>
              <a:ext cx="216360" cy="115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6064920" y="946800"/>
              <a:ext cx="88560" cy="64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217480" y="970560"/>
              <a:ext cx="221040" cy="102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6824880" y="1037880"/>
              <a:ext cx="176400" cy="66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6570000" y="1046520"/>
              <a:ext cx="77760" cy="478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6624000" y="1050120"/>
              <a:ext cx="97200" cy="34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5273640" y="1073520"/>
              <a:ext cx="598680" cy="313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6628680" y="1101960"/>
              <a:ext cx="8532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6758640" y="1117080"/>
              <a:ext cx="22680" cy="66960"/>
            </a:xfrm>
            <a:prstGeom prst="pie">
              <a:avLst/>
            </a:prstGeom>
            <a:solidFill>
              <a:srgbClr val="ffb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6914880" y="1120680"/>
              <a:ext cx="117720" cy="954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6898320" y="1132560"/>
              <a:ext cx="26280" cy="12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5420520" y="1144800"/>
              <a:ext cx="15732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6924600" y="1146960"/>
              <a:ext cx="135720" cy="19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6666120" y="1146960"/>
              <a:ext cx="122400" cy="237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5810040" y="1155240"/>
              <a:ext cx="833040" cy="2973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6768000" y="1171800"/>
              <a:ext cx="51480" cy="138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7007400" y="1180800"/>
              <a:ext cx="90000" cy="161640"/>
            </a:xfrm>
            <a:prstGeom prst="pie">
              <a:avLst/>
            </a:pr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4953960" y="1212840"/>
              <a:ext cx="126000" cy="86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5504760" y="1219320"/>
              <a:ext cx="25488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891760" y="1238040"/>
              <a:ext cx="414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5112720" y="1243440"/>
              <a:ext cx="163440" cy="39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5937480" y="1262880"/>
              <a:ext cx="330480" cy="122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136840" y="1277640"/>
              <a:ext cx="132480" cy="92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5087520" y="1282680"/>
              <a:ext cx="36720" cy="32040"/>
            </a:xfrm>
            <a:prstGeom prst="pie">
              <a:avLst/>
            </a:prstGeom>
            <a:solidFill>
              <a:srgbClr val="ffb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6870240" y="1287000"/>
              <a:ext cx="27720" cy="47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5217480" y="1327320"/>
              <a:ext cx="98640" cy="50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5059800" y="1357920"/>
              <a:ext cx="9252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6436440" y="1365120"/>
              <a:ext cx="211320" cy="1368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5065920" y="1394280"/>
              <a:ext cx="210240" cy="43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6745320" y="1394280"/>
              <a:ext cx="87480" cy="47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6863400" y="1398600"/>
              <a:ext cx="34560" cy="46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6323400" y="1413360"/>
              <a:ext cx="101880" cy="59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937480" y="1450440"/>
              <a:ext cx="254880" cy="167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6783840" y="1447560"/>
              <a:ext cx="154800" cy="299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5359320" y="1454040"/>
              <a:ext cx="66240" cy="36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6086520" y="1458360"/>
              <a:ext cx="217440" cy="242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86080" y="1465560"/>
              <a:ext cx="5040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5203080" y="1473120"/>
              <a:ext cx="211320" cy="145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479560" y="1481040"/>
              <a:ext cx="349560" cy="2527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354720" y="1480320"/>
              <a:ext cx="85320" cy="525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5896440" y="1492560"/>
              <a:ext cx="40680" cy="74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6002280" y="1505160"/>
              <a:ext cx="15624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5479560" y="1514520"/>
              <a:ext cx="17640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6478560" y="1516680"/>
              <a:ext cx="242640" cy="93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6899400" y="1523520"/>
              <a:ext cx="113040" cy="203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5390640" y="1559880"/>
              <a:ext cx="74160" cy="102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6758640" y="1576800"/>
              <a:ext cx="37080" cy="97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5896440" y="1596240"/>
              <a:ext cx="162360" cy="1375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326560" y="1602720"/>
              <a:ext cx="157320" cy="14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4987800" y="1605600"/>
              <a:ext cx="675360" cy="313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5182560" y="1612440"/>
              <a:ext cx="38160" cy="37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41400" y="1609200"/>
              <a:ext cx="187560" cy="98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267960" y="1629720"/>
              <a:ext cx="114120" cy="1357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557760" y="1629720"/>
              <a:ext cx="117720" cy="182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792480" y="1645920"/>
              <a:ext cx="40680" cy="95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5230440" y="1674360"/>
              <a:ext cx="123840" cy="24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6211800" y="1670040"/>
              <a:ext cx="27360" cy="83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6167160" y="1693800"/>
              <a:ext cx="174960" cy="1346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6074640" y="1717200"/>
              <a:ext cx="129600" cy="161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5734440" y="1718640"/>
              <a:ext cx="352080" cy="227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6408720" y="1722240"/>
              <a:ext cx="116640" cy="43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6640920" y="1737000"/>
              <a:ext cx="93600" cy="1148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5622480" y="1744200"/>
              <a:ext cx="92520" cy="478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5146560" y="1755720"/>
              <a:ext cx="443520" cy="174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5511960" y="1756800"/>
              <a:ext cx="38160" cy="38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6902640" y="1761120"/>
              <a:ext cx="85320" cy="230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5812560" y="1764000"/>
              <a:ext cx="71640" cy="39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7048440" y="1768320"/>
              <a:ext cx="587520" cy="55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5675400" y="1774800"/>
              <a:ext cx="137880" cy="127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6753960" y="1788120"/>
              <a:ext cx="19080" cy="47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6388200" y="1792440"/>
              <a:ext cx="136800" cy="19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6890760" y="1792440"/>
              <a:ext cx="136800" cy="40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5918400" y="1803960"/>
              <a:ext cx="90000" cy="139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5843520" y="1815840"/>
              <a:ext cx="86400" cy="96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6561360" y="1830960"/>
              <a:ext cx="1477440" cy="887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6562440" y="1835280"/>
              <a:ext cx="307800" cy="170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6348600" y="1838520"/>
              <a:ext cx="123840" cy="32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6452280" y="1843200"/>
              <a:ext cx="121320" cy="176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6930720" y="1842840"/>
              <a:ext cx="266760" cy="467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6173280" y="1852200"/>
              <a:ext cx="77760" cy="50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6608520" y="1855080"/>
              <a:ext cx="46800" cy="51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6858360" y="1882800"/>
              <a:ext cx="96120" cy="88920"/>
            </a:xfrm>
            <a:prstGeom prst="pie">
              <a:avLst/>
            </a:pr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632280" y="1884960"/>
              <a:ext cx="1284840" cy="76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5793120" y="1906920"/>
              <a:ext cx="31320" cy="16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6257160" y="1922040"/>
              <a:ext cx="1198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6086520" y="1931040"/>
              <a:ext cx="93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6198480" y="1931040"/>
              <a:ext cx="40680" cy="59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5610600" y="1935360"/>
              <a:ext cx="16344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7180560" y="1936080"/>
              <a:ext cx="85320" cy="109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7270920" y="1933920"/>
              <a:ext cx="85320" cy="64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5805000" y="1942560"/>
              <a:ext cx="242640" cy="633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7086960" y="1946160"/>
              <a:ext cx="126000" cy="123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7306920" y="1944000"/>
              <a:ext cx="159840" cy="116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7360920" y="1966680"/>
              <a:ext cx="171720" cy="141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5688720" y="1976760"/>
              <a:ext cx="601920" cy="103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6028560" y="1998000"/>
              <a:ext cx="462600" cy="130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7506360" y="1998000"/>
              <a:ext cx="116640" cy="102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6858360" y="2013480"/>
              <a:ext cx="27720" cy="27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7606080" y="2037240"/>
              <a:ext cx="101880" cy="47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6924600" y="2041200"/>
              <a:ext cx="76680" cy="87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6800760" y="2045880"/>
              <a:ext cx="63360" cy="64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7258680" y="2050560"/>
              <a:ext cx="38160" cy="223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6917400" y="2089080"/>
              <a:ext cx="635760" cy="348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7539840" y="2097000"/>
              <a:ext cx="221040" cy="51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6734520" y="2100600"/>
              <a:ext cx="78120" cy="87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7485840" y="2120400"/>
              <a:ext cx="38160" cy="16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7016040" y="2125080"/>
              <a:ext cx="43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7027920" y="2123280"/>
              <a:ext cx="423000" cy="26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7539840" y="2139480"/>
              <a:ext cx="266760" cy="91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6852240" y="2144520"/>
              <a:ext cx="25200" cy="23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6707160" y="2171520"/>
              <a:ext cx="80280" cy="48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7179480" y="2184480"/>
              <a:ext cx="189720" cy="15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6832080" y="2190600"/>
              <a:ext cx="163440" cy="720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7596720" y="2199240"/>
              <a:ext cx="237960" cy="69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7197480" y="2227680"/>
              <a:ext cx="8856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6702120" y="2242440"/>
              <a:ext cx="176400" cy="48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7736040" y="2250360"/>
              <a:ext cx="98640" cy="493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7584480" y="2274480"/>
              <a:ext cx="58680" cy="20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7630200" y="2297520"/>
              <a:ext cx="183960" cy="59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6707160" y="2307240"/>
              <a:ext cx="178920" cy="32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7160040" y="2326680"/>
              <a:ext cx="56160" cy="100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7572600" y="2326680"/>
              <a:ext cx="214920" cy="74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6886080" y="2329920"/>
              <a:ext cx="30960" cy="11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6740640" y="2357280"/>
              <a:ext cx="84240" cy="50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6792480" y="2361960"/>
              <a:ext cx="117720" cy="8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6832080" y="2374200"/>
              <a:ext cx="188640" cy="86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7544880" y="2377080"/>
              <a:ext cx="211320" cy="68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7512480" y="2401200"/>
              <a:ext cx="20160" cy="7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6852240" y="2425320"/>
              <a:ext cx="205560" cy="87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7524360" y="2428920"/>
              <a:ext cx="93600" cy="11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7081920" y="2432520"/>
              <a:ext cx="32400" cy="20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7393680" y="2432520"/>
              <a:ext cx="170640" cy="146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7584480" y="2441160"/>
              <a:ext cx="129600" cy="78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65080" y="2453040"/>
              <a:ext cx="85320" cy="122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7341840" y="2460960"/>
              <a:ext cx="144000" cy="133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7290000" y="2465280"/>
              <a:ext cx="20160" cy="10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7086960" y="2468160"/>
              <a:ext cx="5364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6949800" y="2487960"/>
              <a:ext cx="124920" cy="78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211880" y="2486520"/>
              <a:ext cx="98280" cy="1126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7334280" y="2535120"/>
              <a:ext cx="66240" cy="62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448 Rectángulo" descr=""/>
          <p:cNvPicPr/>
          <p:nvPr/>
        </p:nvPicPr>
        <p:blipFill>
          <a:blip r:embed="rId1"/>
          <a:stretch/>
        </p:blipFill>
        <p:spPr>
          <a:xfrm>
            <a:off x="-1908000" y="963720"/>
            <a:ext cx="6943680" cy="6143400"/>
          </a:xfrm>
          <a:prstGeom prst="rect">
            <a:avLst/>
          </a:prstGeom>
          <a:ln w="0">
            <a:noFill/>
          </a:ln>
        </p:spPr>
      </p:pic>
      <p:pic>
        <p:nvPicPr>
          <p:cNvPr id="344" name="450 Rectángulo" descr=""/>
          <p:cNvPicPr/>
          <p:nvPr/>
        </p:nvPicPr>
        <p:blipFill>
          <a:blip r:embed="rId2"/>
          <a:stretch/>
        </p:blipFill>
        <p:spPr>
          <a:xfrm>
            <a:off x="2414520" y="2279520"/>
            <a:ext cx="7143840" cy="4145040"/>
          </a:xfrm>
          <a:prstGeom prst="rect">
            <a:avLst/>
          </a:prstGeom>
          <a:ln w="0">
            <a:noFill/>
          </a:ln>
        </p:spPr>
      </p:pic>
      <p:sp>
        <p:nvSpPr>
          <p:cNvPr id="345" name="301 Marcador de pie de página"/>
          <p:cNvSpPr/>
          <p:nvPr/>
        </p:nvSpPr>
        <p:spPr>
          <a:xfrm>
            <a:off x="3124080" y="627840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15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155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115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15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155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115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115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98765421.gif (5024 bytes)"/>
          <p:cNvPicPr/>
          <p:nvPr/>
        </p:nvPicPr>
        <p:blipFill>
          <a:blip r:embed="rId1"/>
          <a:stretch/>
        </p:blipFill>
        <p:spPr>
          <a:xfrm>
            <a:off x="2786040" y="714240"/>
            <a:ext cx="1612800" cy="2179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98765421.gif (5024 bytes)"/>
          <p:cNvPicPr/>
          <p:nvPr/>
        </p:nvPicPr>
        <p:blipFill>
          <a:blip r:embed="rId2"/>
          <a:stretch/>
        </p:blipFill>
        <p:spPr>
          <a:xfrm>
            <a:off x="4786200" y="642960"/>
            <a:ext cx="1613160" cy="2179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98765421.gif (5024 bytes)"/>
          <p:cNvPicPr/>
          <p:nvPr/>
        </p:nvPicPr>
        <p:blipFill>
          <a:blip r:embed="rId3"/>
          <a:stretch/>
        </p:blipFill>
        <p:spPr>
          <a:xfrm>
            <a:off x="6572160" y="642960"/>
            <a:ext cx="1613160" cy="2179440"/>
          </a:xfrm>
          <a:prstGeom prst="rect">
            <a:avLst/>
          </a:prstGeom>
          <a:ln w="0">
            <a:noFill/>
          </a:ln>
        </p:spPr>
      </p:pic>
      <p:pic>
        <p:nvPicPr>
          <p:cNvPr id="349" name="4 Rectángulo" descr=""/>
          <p:cNvPicPr/>
          <p:nvPr/>
        </p:nvPicPr>
        <p:blipFill>
          <a:blip r:embed="rId4"/>
          <a:stretch/>
        </p:blipFill>
        <p:spPr>
          <a:xfrm>
            <a:off x="-1212840" y="-695160"/>
            <a:ext cx="5808600" cy="5138640"/>
          </a:xfrm>
          <a:prstGeom prst="rect">
            <a:avLst/>
          </a:prstGeom>
          <a:ln w="0">
            <a:noFill/>
          </a:ln>
        </p:spPr>
      </p:pic>
      <p:pic>
        <p:nvPicPr>
          <p:cNvPr id="350" name="5 Rectángulo" descr=""/>
          <p:cNvPicPr/>
          <p:nvPr/>
        </p:nvPicPr>
        <p:blipFill>
          <a:blip r:embed="rId5"/>
          <a:stretch/>
        </p:blipFill>
        <p:spPr>
          <a:xfrm>
            <a:off x="328680" y="1895400"/>
            <a:ext cx="8540640" cy="4730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msotw9_temp0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8143920" y="5532480"/>
            <a:ext cx="642960" cy="1039680"/>
          </a:xfrm>
          <a:prstGeom prst="rect">
            <a:avLst/>
          </a:prstGeom>
          <a:ln w="0">
            <a:noFill/>
          </a:ln>
        </p:spPr>
      </p:pic>
      <p:sp>
        <p:nvSpPr>
          <p:cNvPr id="352" name="7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gfd.gif (44590 bytes)"/>
          <p:cNvPicPr/>
          <p:nvPr/>
        </p:nvPicPr>
        <p:blipFill>
          <a:blip r:embed="rId1"/>
          <a:stretch/>
        </p:blipFill>
        <p:spPr>
          <a:xfrm>
            <a:off x="4500720" y="428760"/>
            <a:ext cx="2396880" cy="2214360"/>
          </a:xfrm>
          <a:prstGeom prst="rect">
            <a:avLst/>
          </a:prstGeom>
          <a:ln w="0">
            <a:noFill/>
          </a:ln>
        </p:spPr>
      </p:pic>
      <p:pic>
        <p:nvPicPr>
          <p:cNvPr id="354" name="5 Rectángulo" descr=""/>
          <p:cNvPicPr/>
          <p:nvPr/>
        </p:nvPicPr>
        <p:blipFill>
          <a:blip r:embed="rId2"/>
          <a:stretch/>
        </p:blipFill>
        <p:spPr>
          <a:xfrm>
            <a:off x="-500040" y="-762120"/>
            <a:ext cx="5810400" cy="5139000"/>
          </a:xfrm>
          <a:prstGeom prst="rect">
            <a:avLst/>
          </a:prstGeom>
          <a:ln w="0">
            <a:noFill/>
          </a:ln>
        </p:spPr>
      </p:pic>
      <p:pic>
        <p:nvPicPr>
          <p:cNvPr id="355" name="6 Rectángulo" descr=""/>
          <p:cNvPicPr/>
          <p:nvPr/>
        </p:nvPicPr>
        <p:blipFill>
          <a:blip r:embed="rId3"/>
          <a:stretch/>
        </p:blipFill>
        <p:spPr>
          <a:xfrm>
            <a:off x="-493560" y="3413160"/>
            <a:ext cx="7692840" cy="3133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gfd.gif (44590 bytes)"/>
          <p:cNvPicPr/>
          <p:nvPr/>
        </p:nvPicPr>
        <p:blipFill>
          <a:blip r:embed="rId4"/>
          <a:stretch/>
        </p:blipFill>
        <p:spPr>
          <a:xfrm>
            <a:off x="6746760" y="357120"/>
            <a:ext cx="2397240" cy="2214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gfd.gif (44590 bytes)"/>
          <p:cNvPicPr/>
          <p:nvPr/>
        </p:nvPicPr>
        <p:blipFill>
          <a:blip r:embed="rId5"/>
          <a:stretch/>
        </p:blipFill>
        <p:spPr>
          <a:xfrm>
            <a:off x="4532400" y="2428920"/>
            <a:ext cx="2396880" cy="2214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gfd.gif (44590 bytes)"/>
          <p:cNvPicPr/>
          <p:nvPr/>
        </p:nvPicPr>
        <p:blipFill>
          <a:blip r:embed="rId6"/>
          <a:stretch/>
        </p:blipFill>
        <p:spPr>
          <a:xfrm>
            <a:off x="6746760" y="2500200"/>
            <a:ext cx="2397240" cy="221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Object 2"/>
          <p:cNvGraphicFramePr/>
          <p:nvPr/>
        </p:nvGraphicFramePr>
        <p:xfrm>
          <a:off x="8001000" y="5572080"/>
          <a:ext cx="78588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5572080"/>
                    <a:ext cx="785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8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3429000" y="571680"/>
            <a:ext cx="1447920" cy="1425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2"/>
          <a:stretch/>
        </p:blipFill>
        <p:spPr>
          <a:xfrm>
            <a:off x="5429160" y="642960"/>
            <a:ext cx="1447920" cy="1425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7215120" y="642960"/>
            <a:ext cx="1447920" cy="1425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"/>
          <p:cNvPicPr/>
          <p:nvPr/>
        </p:nvPicPr>
        <p:blipFill>
          <a:blip r:embed="rId4"/>
          <a:stretch/>
        </p:blipFill>
        <p:spPr>
          <a:xfrm>
            <a:off x="4500720" y="2214720"/>
            <a:ext cx="1447560" cy="1425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1" descr=""/>
          <p:cNvPicPr/>
          <p:nvPr/>
        </p:nvPicPr>
        <p:blipFill>
          <a:blip r:embed="rId5"/>
          <a:stretch/>
        </p:blipFill>
        <p:spPr>
          <a:xfrm>
            <a:off x="6286680" y="2214720"/>
            <a:ext cx="1447560" cy="1425240"/>
          </a:xfrm>
          <a:prstGeom prst="rect">
            <a:avLst/>
          </a:prstGeom>
          <a:ln w="0">
            <a:noFill/>
          </a:ln>
        </p:spPr>
      </p:pic>
      <p:pic>
        <p:nvPicPr>
          <p:cNvPr id="367" name="6 Rectángulo" descr=""/>
          <p:cNvPicPr/>
          <p:nvPr/>
        </p:nvPicPr>
        <p:blipFill>
          <a:blip r:embed="rId6"/>
          <a:stretch/>
        </p:blipFill>
        <p:spPr>
          <a:xfrm>
            <a:off x="-1639800" y="-835200"/>
            <a:ext cx="5810040" cy="5139000"/>
          </a:xfrm>
          <a:prstGeom prst="rect">
            <a:avLst/>
          </a:prstGeom>
          <a:ln w="0">
            <a:noFill/>
          </a:ln>
        </p:spPr>
      </p:pic>
      <p:pic>
        <p:nvPicPr>
          <p:cNvPr id="368" name="7 Rectángulo" descr=""/>
          <p:cNvPicPr/>
          <p:nvPr/>
        </p:nvPicPr>
        <p:blipFill>
          <a:blip r:embed="rId7"/>
          <a:stretch/>
        </p:blipFill>
        <p:spPr>
          <a:xfrm>
            <a:off x="-719280" y="2498760"/>
            <a:ext cx="8888400" cy="414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12"/>
          <p:cNvGraphicFramePr/>
          <p:nvPr/>
        </p:nvGraphicFramePr>
        <p:xfrm>
          <a:off x="7858080" y="5500800"/>
          <a:ext cx="100008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080" y="5500800"/>
                    <a:ext cx="1000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9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jdogbal.gif (11107 bytes)"/>
          <p:cNvPicPr/>
          <p:nvPr/>
        </p:nvPicPr>
        <p:blipFill>
          <a:blip r:embed="rId1"/>
          <a:stretch/>
        </p:blipFill>
        <p:spPr>
          <a:xfrm flipH="1">
            <a:off x="3214800" y="642960"/>
            <a:ext cx="1285920" cy="1708200"/>
          </a:xfrm>
          <a:prstGeom prst="rect">
            <a:avLst/>
          </a:prstGeom>
          <a:ln w="0">
            <a:noFill/>
          </a:ln>
        </p:spPr>
      </p:pic>
      <p:pic>
        <p:nvPicPr>
          <p:cNvPr id="373" name="8 Rectángulo" descr=""/>
          <p:cNvPicPr/>
          <p:nvPr/>
        </p:nvPicPr>
        <p:blipFill>
          <a:blip r:embed="rId2"/>
          <a:stretch/>
        </p:blipFill>
        <p:spPr>
          <a:xfrm>
            <a:off x="-1500120" y="-622440"/>
            <a:ext cx="5810040" cy="5139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jdogbal.gif (11107 bytes)"/>
          <p:cNvPicPr/>
          <p:nvPr/>
        </p:nvPicPr>
        <p:blipFill>
          <a:blip r:embed="rId3"/>
          <a:stretch/>
        </p:blipFill>
        <p:spPr>
          <a:xfrm flipH="1">
            <a:off x="5000760" y="642960"/>
            <a:ext cx="1285920" cy="1708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jdogbal.gif (11107 bytes)"/>
          <p:cNvPicPr/>
          <p:nvPr/>
        </p:nvPicPr>
        <p:blipFill>
          <a:blip r:embed="rId4"/>
          <a:stretch/>
        </p:blipFill>
        <p:spPr>
          <a:xfrm flipH="1">
            <a:off x="6715080" y="642960"/>
            <a:ext cx="1285920" cy="1708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jdogbal.gif (11107 bytes)"/>
          <p:cNvPicPr/>
          <p:nvPr/>
        </p:nvPicPr>
        <p:blipFill>
          <a:blip r:embed="rId5"/>
          <a:stretch/>
        </p:blipFill>
        <p:spPr>
          <a:xfrm flipH="1">
            <a:off x="3357360" y="2286000"/>
            <a:ext cx="1285560" cy="1708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jdogbal.gif (11107 bytes)"/>
          <p:cNvPicPr/>
          <p:nvPr/>
        </p:nvPicPr>
        <p:blipFill>
          <a:blip r:embed="rId6"/>
          <a:stretch/>
        </p:blipFill>
        <p:spPr>
          <a:xfrm flipH="1">
            <a:off x="5072040" y="2286000"/>
            <a:ext cx="1285920" cy="1708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jdogbal.gif (11107 bytes)"/>
          <p:cNvPicPr/>
          <p:nvPr/>
        </p:nvPicPr>
        <p:blipFill>
          <a:blip r:embed="rId7"/>
          <a:stretch/>
        </p:blipFill>
        <p:spPr>
          <a:xfrm flipH="1">
            <a:off x="6786360" y="2286000"/>
            <a:ext cx="1285560" cy="1708200"/>
          </a:xfrm>
          <a:prstGeom prst="rect">
            <a:avLst/>
          </a:prstGeom>
          <a:ln w="0">
            <a:noFill/>
          </a:ln>
        </p:spPr>
      </p:pic>
      <p:pic>
        <p:nvPicPr>
          <p:cNvPr id="379" name="14 Rectángulo" descr=""/>
          <p:cNvPicPr/>
          <p:nvPr/>
        </p:nvPicPr>
        <p:blipFill>
          <a:blip r:embed="rId8"/>
          <a:stretch/>
        </p:blipFill>
        <p:spPr>
          <a:xfrm>
            <a:off x="-2120760" y="2011320"/>
            <a:ext cx="9131040" cy="5138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msotw9_temp0"/>
          <p:cNvPicPr/>
          <p:nvPr/>
        </p:nvPicPr>
        <p:blipFill>
          <a:blip r:embed="rId9"/>
          <a:stretch/>
        </p:blipFill>
        <p:spPr>
          <a:xfrm>
            <a:off x="7643880" y="5429160"/>
            <a:ext cx="1214280" cy="1133640"/>
          </a:xfrm>
          <a:prstGeom prst="rect">
            <a:avLst/>
          </a:prstGeom>
          <a:ln w="0">
            <a:noFill/>
          </a:ln>
        </p:spPr>
      </p:pic>
      <p:sp>
        <p:nvSpPr>
          <p:cNvPr id="381" name="16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6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6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6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6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6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katze062.gif (19264 bytes)"/>
          <p:cNvPicPr/>
          <p:nvPr/>
        </p:nvPicPr>
        <p:blipFill>
          <a:blip r:embed="rId1"/>
          <a:stretch/>
        </p:blipFill>
        <p:spPr>
          <a:xfrm>
            <a:off x="6429240" y="57168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katze062.gif (19264 bytes)"/>
          <p:cNvPicPr/>
          <p:nvPr/>
        </p:nvPicPr>
        <p:blipFill>
          <a:blip r:embed="rId2"/>
          <a:stretch/>
        </p:blipFill>
        <p:spPr>
          <a:xfrm>
            <a:off x="5038560" y="57168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katze062.gif (19264 bytes)"/>
          <p:cNvPicPr/>
          <p:nvPr/>
        </p:nvPicPr>
        <p:blipFill>
          <a:blip r:embed="rId3"/>
          <a:stretch/>
        </p:blipFill>
        <p:spPr>
          <a:xfrm>
            <a:off x="7786800" y="500040"/>
            <a:ext cx="1176120" cy="1150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katze062.gif (19264 bytes)"/>
          <p:cNvPicPr/>
          <p:nvPr/>
        </p:nvPicPr>
        <p:blipFill>
          <a:blip r:embed="rId4"/>
          <a:stretch/>
        </p:blipFill>
        <p:spPr>
          <a:xfrm>
            <a:off x="3643200" y="57168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katze062.gif (19264 bytes)"/>
          <p:cNvPicPr/>
          <p:nvPr/>
        </p:nvPicPr>
        <p:blipFill>
          <a:blip r:embed="rId5"/>
          <a:stretch/>
        </p:blipFill>
        <p:spPr>
          <a:xfrm>
            <a:off x="4429080" y="185724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katze062.gif (19264 bytes)"/>
          <p:cNvPicPr/>
          <p:nvPr/>
        </p:nvPicPr>
        <p:blipFill>
          <a:blip r:embed="rId6"/>
          <a:stretch/>
        </p:blipFill>
        <p:spPr>
          <a:xfrm>
            <a:off x="5857920" y="1785960"/>
            <a:ext cx="117612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katze062.gif (19264 bytes)"/>
          <p:cNvPicPr/>
          <p:nvPr/>
        </p:nvPicPr>
        <p:blipFill>
          <a:blip r:embed="rId7"/>
          <a:stretch/>
        </p:blipFill>
        <p:spPr>
          <a:xfrm>
            <a:off x="7358040" y="178596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9" name="8 Rectángulo" descr=""/>
          <p:cNvPicPr/>
          <p:nvPr/>
        </p:nvPicPr>
        <p:blipFill>
          <a:blip r:embed="rId8"/>
          <a:stretch/>
        </p:blipFill>
        <p:spPr>
          <a:xfrm>
            <a:off x="-1500120" y="-622440"/>
            <a:ext cx="5810040" cy="5139000"/>
          </a:xfrm>
          <a:prstGeom prst="rect">
            <a:avLst/>
          </a:prstGeom>
          <a:ln w="0">
            <a:noFill/>
          </a:ln>
        </p:spPr>
      </p:pic>
      <p:pic>
        <p:nvPicPr>
          <p:cNvPr id="390" name="9 Rectángulo" descr=""/>
          <p:cNvPicPr/>
          <p:nvPr/>
        </p:nvPicPr>
        <p:blipFill>
          <a:blip r:embed="rId9"/>
          <a:stretch/>
        </p:blipFill>
        <p:spPr>
          <a:xfrm>
            <a:off x="-1689120" y="1663560"/>
            <a:ext cx="10509120" cy="5139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10"/>
          <a:stretch/>
        </p:blipFill>
        <p:spPr>
          <a:xfrm>
            <a:off x="7000920" y="5429160"/>
            <a:ext cx="928800" cy="1139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11"/>
          <a:stretch/>
        </p:blipFill>
        <p:spPr>
          <a:xfrm>
            <a:off x="7994520" y="5429160"/>
            <a:ext cx="792360" cy="1071720"/>
          </a:xfrm>
          <a:prstGeom prst="rect">
            <a:avLst/>
          </a:prstGeom>
          <a:ln w="0">
            <a:noFill/>
          </a:ln>
        </p:spPr>
      </p:pic>
      <p:sp>
        <p:nvSpPr>
          <p:cNvPr id="393" name="12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9" descr="mix_213.gif (12474 bytes)"/>
          <p:cNvPicPr/>
          <p:nvPr/>
        </p:nvPicPr>
        <p:blipFill>
          <a:blip r:embed="rId1"/>
          <a:stretch/>
        </p:blipFill>
        <p:spPr>
          <a:xfrm>
            <a:off x="7286760" y="21420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mix_213.gif (12474 bytes)"/>
          <p:cNvPicPr/>
          <p:nvPr/>
        </p:nvPicPr>
        <p:blipFill>
          <a:blip r:embed="rId2"/>
          <a:stretch/>
        </p:blipFill>
        <p:spPr>
          <a:xfrm>
            <a:off x="7358040" y="128592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mix_213.gif (12474 bytes)"/>
          <p:cNvPicPr/>
          <p:nvPr/>
        </p:nvPicPr>
        <p:blipFill>
          <a:blip r:embed="rId3"/>
          <a:stretch/>
        </p:blipFill>
        <p:spPr>
          <a:xfrm>
            <a:off x="6215040" y="28584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mix_213.gif (12474 bytes)"/>
          <p:cNvPicPr/>
          <p:nvPr/>
        </p:nvPicPr>
        <p:blipFill>
          <a:blip r:embed="rId4"/>
          <a:stretch/>
        </p:blipFill>
        <p:spPr>
          <a:xfrm>
            <a:off x="6286680" y="135720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mix_213.gif (12474 bytes)"/>
          <p:cNvPicPr/>
          <p:nvPr/>
        </p:nvPicPr>
        <p:blipFill>
          <a:blip r:embed="rId5"/>
          <a:stretch/>
        </p:blipFill>
        <p:spPr>
          <a:xfrm>
            <a:off x="5143680" y="28584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mix_213.gif (12474 bytes)"/>
          <p:cNvPicPr/>
          <p:nvPr/>
        </p:nvPicPr>
        <p:blipFill>
          <a:blip r:embed="rId6"/>
          <a:stretch/>
        </p:blipFill>
        <p:spPr>
          <a:xfrm>
            <a:off x="5143680" y="135720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mix_213.gif (12474 bytes)"/>
          <p:cNvPicPr/>
          <p:nvPr/>
        </p:nvPicPr>
        <p:blipFill>
          <a:blip r:embed="rId7"/>
          <a:stretch/>
        </p:blipFill>
        <p:spPr>
          <a:xfrm>
            <a:off x="4000680" y="28584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mix_213.gif (12474 bytes)"/>
          <p:cNvPicPr/>
          <p:nvPr/>
        </p:nvPicPr>
        <p:blipFill>
          <a:blip r:embed="rId8"/>
          <a:stretch/>
        </p:blipFill>
        <p:spPr>
          <a:xfrm>
            <a:off x="4000680" y="142884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402" name="14 Rectángulo" descr=""/>
          <p:cNvPicPr/>
          <p:nvPr/>
        </p:nvPicPr>
        <p:blipFill>
          <a:blip r:embed="rId9"/>
          <a:stretch/>
        </p:blipFill>
        <p:spPr>
          <a:xfrm>
            <a:off x="-1030320" y="-981000"/>
            <a:ext cx="5810400" cy="5138640"/>
          </a:xfrm>
          <a:prstGeom prst="rect">
            <a:avLst/>
          </a:prstGeom>
          <a:ln w="0">
            <a:noFill/>
          </a:ln>
        </p:spPr>
      </p:pic>
      <p:pic>
        <p:nvPicPr>
          <p:cNvPr id="403" name="15 Rectángulo" descr=""/>
          <p:cNvPicPr/>
          <p:nvPr/>
        </p:nvPicPr>
        <p:blipFill>
          <a:blip r:embed="rId10"/>
          <a:stretch/>
        </p:blipFill>
        <p:spPr>
          <a:xfrm>
            <a:off x="-1401840" y="1938240"/>
            <a:ext cx="10668240" cy="5139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11"/>
          <a:stretch/>
        </p:blipFill>
        <p:spPr>
          <a:xfrm>
            <a:off x="6786720" y="3000240"/>
            <a:ext cx="1042920" cy="1189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"/>
          <p:cNvPicPr/>
          <p:nvPr/>
        </p:nvPicPr>
        <p:blipFill>
          <a:blip r:embed="rId12"/>
          <a:stretch/>
        </p:blipFill>
        <p:spPr>
          <a:xfrm>
            <a:off x="7800840" y="2960640"/>
            <a:ext cx="914400" cy="1325520"/>
          </a:xfrm>
          <a:prstGeom prst="rect">
            <a:avLst/>
          </a:prstGeom>
          <a:ln w="0">
            <a:noFill/>
          </a:ln>
        </p:spPr>
      </p:pic>
      <p:sp>
        <p:nvSpPr>
          <p:cNvPr id="406" name="13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Rectángulo" descr=""/>
          <p:cNvPicPr/>
          <p:nvPr/>
        </p:nvPicPr>
        <p:blipFill>
          <a:blip r:embed="rId1"/>
          <a:stretch/>
        </p:blipFill>
        <p:spPr>
          <a:xfrm>
            <a:off x="712800" y="523800"/>
            <a:ext cx="5810400" cy="513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1" descr="3fc0ea1050282240.gif (36086 bytes)"/>
          <p:cNvPicPr/>
          <p:nvPr/>
        </p:nvPicPr>
        <p:blipFill>
          <a:blip r:embed="rId2"/>
          <a:stretch/>
        </p:blipFill>
        <p:spPr>
          <a:xfrm>
            <a:off x="4071960" y="214200"/>
            <a:ext cx="1571760" cy="1357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3fc0ea1050282240.gif (36086 bytes)"/>
          <p:cNvPicPr/>
          <p:nvPr/>
        </p:nvPicPr>
        <p:blipFill>
          <a:blip r:embed="rId3"/>
          <a:stretch/>
        </p:blipFill>
        <p:spPr>
          <a:xfrm>
            <a:off x="2428920" y="214200"/>
            <a:ext cx="1571760" cy="1357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3fc0ea1050282240.gif (36086 bytes)"/>
          <p:cNvPicPr/>
          <p:nvPr/>
        </p:nvPicPr>
        <p:blipFill>
          <a:blip r:embed="rId4"/>
          <a:stretch/>
        </p:blipFill>
        <p:spPr>
          <a:xfrm>
            <a:off x="785880" y="214200"/>
            <a:ext cx="1571400" cy="1357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3fc0ea1050282240.gif (36086 bytes)"/>
          <p:cNvPicPr/>
          <p:nvPr/>
        </p:nvPicPr>
        <p:blipFill>
          <a:blip r:embed="rId5"/>
          <a:stretch/>
        </p:blipFill>
        <p:spPr>
          <a:xfrm>
            <a:off x="357120" y="142884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3fc0ea1050282240.gif (36086 bytes)"/>
          <p:cNvPicPr/>
          <p:nvPr/>
        </p:nvPicPr>
        <p:blipFill>
          <a:blip r:embed="rId6"/>
          <a:stretch/>
        </p:blipFill>
        <p:spPr>
          <a:xfrm>
            <a:off x="357120" y="278604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3fc0ea1050282240.gif (36086 bytes)"/>
          <p:cNvPicPr/>
          <p:nvPr/>
        </p:nvPicPr>
        <p:blipFill>
          <a:blip r:embed="rId7"/>
          <a:stretch/>
        </p:blipFill>
        <p:spPr>
          <a:xfrm>
            <a:off x="357120" y="4143240"/>
            <a:ext cx="1571760" cy="13575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3fc0ea1050282240.gif (36086 bytes)"/>
          <p:cNvPicPr/>
          <p:nvPr/>
        </p:nvPicPr>
        <p:blipFill>
          <a:blip r:embed="rId8"/>
          <a:stretch/>
        </p:blipFill>
        <p:spPr>
          <a:xfrm>
            <a:off x="428760" y="5429160"/>
            <a:ext cx="1571400" cy="1357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3fc0ea1050282240.gif (36086 bytes)"/>
          <p:cNvPicPr/>
          <p:nvPr/>
        </p:nvPicPr>
        <p:blipFill>
          <a:blip r:embed="rId9"/>
          <a:stretch/>
        </p:blipFill>
        <p:spPr>
          <a:xfrm>
            <a:off x="2357280" y="4643280"/>
            <a:ext cx="1571760" cy="135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3fc0ea1050282240.gif (36086 bytes)"/>
          <p:cNvPicPr/>
          <p:nvPr/>
        </p:nvPicPr>
        <p:blipFill>
          <a:blip r:embed="rId10"/>
          <a:stretch/>
        </p:blipFill>
        <p:spPr>
          <a:xfrm>
            <a:off x="4286160" y="45720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417" name="11 Rectángulo" descr=""/>
          <p:cNvPicPr/>
          <p:nvPr/>
        </p:nvPicPr>
        <p:blipFill>
          <a:blip r:embed="rId11"/>
          <a:stretch/>
        </p:blipFill>
        <p:spPr>
          <a:xfrm>
            <a:off x="3638520" y="2036880"/>
            <a:ext cx="5981760" cy="253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12"/>
          <a:stretch/>
        </p:blipFill>
        <p:spPr>
          <a:xfrm>
            <a:off x="6072120" y="5429160"/>
            <a:ext cx="1214640" cy="1285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"/>
          <p:cNvPicPr/>
          <p:nvPr/>
        </p:nvPicPr>
        <p:blipFill>
          <a:blip r:embed="rId13"/>
          <a:stretch/>
        </p:blipFill>
        <p:spPr>
          <a:xfrm>
            <a:off x="7262640" y="5429160"/>
            <a:ext cx="1167120" cy="1285920"/>
          </a:xfrm>
          <a:prstGeom prst="rect">
            <a:avLst/>
          </a:prstGeom>
          <a:ln w="0">
            <a:noFill/>
          </a:ln>
        </p:spPr>
      </p:pic>
      <p:sp>
        <p:nvSpPr>
          <p:cNvPr id="420" name="14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3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4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4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3:49:57Z</dcterms:created>
  <dc:creator>Fam. Rico T.</dc:creator>
  <dc:description/>
  <dc:language>en-US</dc:language>
  <cp:lastModifiedBy>Fam. Rico T.</cp:lastModifiedBy>
  <dcterms:modified xsi:type="dcterms:W3CDTF">2009-12-19T02:42:15Z</dcterms:modified>
  <cp:revision>12</cp:revision>
  <dc:subject/>
  <dc:title>Diapositiva 1</dc:title>
</cp:coreProperties>
</file>